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4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439-852B-4258-ADD9-41CCB402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20B-8949-47F6-AB0E-D5B1B823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B7A-18CF-4248-A22D-F9B30D63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171-E64A-422F-9565-9778D7C6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B941-11C3-4B38-ADF8-C429F380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3A0F-17C1-45A4-8A32-CC431377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A470-118B-4E33-9642-7397552F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CBA0-902E-4F4E-B19C-629B61D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BFA7-E30A-4DD5-85FA-B4D05D4D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0DFA-08C9-417A-96CA-53C10EA0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E569-2617-45BC-BC92-D51CDF8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0A4-D02A-4E5A-9C7F-3C286D54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283C-7ED4-4724-9B02-E73ADF51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6BCB-16ED-47B4-900E-8D54C316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64B-053F-41A1-8275-5642E952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E5B3-5E19-489C-BA32-80023957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A353-D223-4626-A96F-F6A9FEE0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DB98-545F-46AD-84F6-DAD63EFB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73CA-0C86-4633-A640-472B9F35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1F31E-51E0-47FC-A1E9-08FF4FE7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420C-C638-4C97-92F8-2950A93C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235C-BCCF-40C0-A346-118EE792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94A-2708-4D1F-A315-30CDBF77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3042-2E68-4CFA-9359-AEE54F0C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46D9-18E3-475B-AD32-C03EAD2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C2AB-3F61-4DEA-B80B-8D9E3E9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A374-05E6-4690-9113-2FC732E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CAEE-96E4-4287-A6D1-0EDDFEC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F4EC-9919-4ACB-B997-CC75F2EB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F9B8-885C-4A88-96C2-6A3D773E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E423-C9B7-4CDA-A263-75EA77C4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B405-E050-4FC5-BB9A-2D87E6A5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36B5-7111-4F45-8F93-95D7F0BF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F86-A742-4453-99E9-334554FF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416A-53EB-46FF-869D-88B14AC4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2A3E-5E6E-4AEF-B728-1ADEC509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98824-226B-4EB5-BD90-C5961E4A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E085-60E6-4B59-92BB-1E3425A2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7EC6-302D-4A77-AF53-4BE1C585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1D4F-B453-4226-86EC-E20B3E17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4552-F061-460E-8CFA-07A5DAE7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4EAD-1596-40D9-8971-D6202150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A202-1631-45CA-867A-910E6218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6BB-AD99-4F91-A203-CDF8FD83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3EB-2420-46B1-A7ED-5925556D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D55-7C47-4471-9B08-1870280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4E9-1E83-40B8-8FEF-C506DD13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6EA-DACA-40BC-AA5D-75FFE8A6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B3A0-B3BB-4848-8D1C-ABCDF61233D8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5CC0-9340-4F12-B71B-844C19C8108E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E4B6-348C-448D-94A7-D72FCD7091F7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B4E0-023C-4526-9BC6-1E89DDEA8FFF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28560"/>
            <a:ext cx="8766360" cy="3059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Calligraphy"/>
            </a:endParaRPr>
          </a:p>
        </p:txBody>
      </p:sp>
      <p:pic>
        <p:nvPicPr>
          <p:cNvPr id="197" name="Picture 4" descr="Sunset.jpg"/>
          <p:cNvPicPr/>
          <p:nvPr/>
        </p:nvPicPr>
        <p:blipFill>
          <a:blip r:embed="rId2"/>
          <a:stretch/>
        </p:blipFill>
        <p:spPr>
          <a:xfrm>
            <a:off x="1295280" y="4114800"/>
            <a:ext cx="6782040" cy="2476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6666"/>
                </a:solidFill>
                <a:latin typeface="Brush Script MT"/>
              </a:rPr>
              <a:t>THE END</a:t>
            </a:r>
            <a:endParaRPr b="0" lang="en-US" sz="8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Placeholder 6" descr="Water lilies.jpg"/>
          <p:cNvPicPr/>
          <p:nvPr/>
        </p:nvPicPr>
        <p:blipFill>
          <a:blip r:embed="rId1"/>
          <a:srcRect l="5962" t="0" r="5962" b="0"/>
          <a:stretch/>
        </p:blipFill>
        <p:spPr>
          <a:xfrm rot="420000">
            <a:off x="3414600" y="1055160"/>
            <a:ext cx="4945320" cy="40086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907920" y="1176480"/>
            <a:ext cx="8485200" cy="31762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4419720"/>
            <a:ext cx="52578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00"/>
              </a:solidFill>
              <a:latin typeface="Constantia"/>
            </a:endParaRPr>
          </a:p>
        </p:txBody>
      </p:sp>
      <p:pic>
        <p:nvPicPr>
          <p:cNvPr id="200" name="Picture 5" descr="C:\Program Files\Microsoft Office\MEDIA\CAGCAT10\j0301050.wmf"/>
          <p:cNvPicPr/>
          <p:nvPr/>
        </p:nvPicPr>
        <p:blipFill>
          <a:blip r:embed="rId2"/>
          <a:stretch/>
        </p:blipFill>
        <p:spPr>
          <a:xfrm>
            <a:off x="228600" y="838080"/>
            <a:ext cx="41911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Edwardian Script ITC"/>
              </a:rPr>
              <a:t>Saudi Arabia facts…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1985 prince Sultan Ibn Salman became the first Arab and first Muslim to travel into spac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audi women are forbidden to drive cars and ride bik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audi’s believe that the rules for women are to protect a woman's modesty and hon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Businesses and offices are required to close during the 5 prayer times though out the da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st Muslims practice Isla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cause of the lack of water in Saudi Arabia they rely on desalination for wa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audi people talk before and after meals never dur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don’t have movies the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il is their most exported resourc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4" descr="C:\Program Files\Microsoft Office\MEDIA\CAGCAT10\j0281904.wmf"/>
          <p:cNvPicPr/>
          <p:nvPr/>
        </p:nvPicPr>
        <p:blipFill>
          <a:blip r:embed="rId2"/>
          <a:stretch/>
        </p:blipFill>
        <p:spPr>
          <a:xfrm>
            <a:off x="1066680" y="2362320"/>
            <a:ext cx="3114720" cy="294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Lucida Handwriting"/>
              </a:rPr>
              <a:t>Iran fact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ficial language is Persian~Far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ia Islam is Iran’s state relig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% of Iran’s population is nomadic or semi nomad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 and women do not display affection in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houses in the desert city of Yazd have underground houses to escape the he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ys and girls go to separate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marriages are arranged by family, some parts of Iran have changed thoug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Picture 5" descr="C:\Program Files\Microsoft Office\MEDIA\CAGCAT10\j0234687.gif"/>
          <p:cNvPicPr/>
          <p:nvPr/>
        </p:nvPicPr>
        <p:blipFill>
          <a:blip r:embed="rId2"/>
          <a:stretch/>
        </p:blipFill>
        <p:spPr>
          <a:xfrm>
            <a:off x="685800" y="1905120"/>
            <a:ext cx="4138560" cy="3581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Lucida Calligraphy"/>
              </a:rPr>
              <a:t>Israel  </a:t>
            </a:r>
            <a:r>
              <a:rPr b="0" lang="en-US" sz="5000" spc="-1" strike="noStrike">
                <a:solidFill>
                  <a:srgbClr val="666666"/>
                </a:solidFill>
                <a:latin typeface="Lucida Calligraphy"/>
              </a:rPr>
              <a:t>fact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Israelis are on the Kibbutz, a rural community where everybody shares everything with almost every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 and women are required to serve in the military for a certain amount of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read more books than any other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s the second largest fleet of fighter air cra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y country in the M.E. that allows Muslims, Christians, and Jews all in one pl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e-third is Israelis volunteer  for something in there 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no civil marriag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rael does not have a written constit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Picture 5" descr="C:\Program Files\Microsoft Office\MEDIA\CAGCAT10\j0302953.jpg"/>
          <p:cNvPicPr/>
          <p:nvPr/>
        </p:nvPicPr>
        <p:blipFill>
          <a:blip r:embed="rId2"/>
          <a:stretch/>
        </p:blipFill>
        <p:spPr>
          <a:xfrm>
            <a:off x="1295280" y="27432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Lucida Calligraphy"/>
              </a:rPr>
              <a:t>Turkey facts</a:t>
            </a:r>
            <a:endParaRPr b="0" lang="en-US" sz="6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ea is their national dri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very popular sport there is camel wrest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d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ote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ost common folk instrument is the sa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ccer was introduced to them by the British in 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gia Sophia is a gigantic  church built in Istanbul in A.D. 557 (very famou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7:54:16Z</dcterms:created>
  <dc:creator>200198183</dc:creator>
  <dc:description/>
  <dc:language>en-US</dc:language>
  <cp:lastModifiedBy>200198183</cp:lastModifiedBy>
  <dcterms:modified xsi:type="dcterms:W3CDTF">2010-09-24T17:54:17Z</dcterms:modified>
  <cp:revision>10</cp:revision>
  <dc:subject/>
  <dc:title>Countries in the Middle East.</dc:title>
</cp:coreProperties>
</file>